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B0B-1B22-439C-97C9-DDCCAAFF8C6C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WAN Enablement of PD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quirements on Member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IIS and Networking Services on Windows Server 2000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IS Enabled using TCP/IP Tunneling protoco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Ports need to be opened on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80 ( RPC over HTTP Traffic 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1521 ( Oracle Traffic 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445 (On-Demand Report Acces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quirement on Client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IS Enabled using TCP/IP Tunneling Protoco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Port 1801 need to be opened for MSMQ acces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urity Consideration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Firewall configur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80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1521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445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1801 Open (On Remote Client for NDS server)  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ent can be any outside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llow Anonymous Access to RPC Proxy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Deny access for all the IP addresses other than Member Clients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mote Client Configur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un the RemoteClientSet Utility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ter the Public IP addresses of both the Remote Client and NDS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ter the fully qualified domain name of the NDS server (e.g. domain.nds.com)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ck Ok and login to the applic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ere is no apparent difference in the normal working of NDS application for a remote cli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WORKING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 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Distributed Component Object Mod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upports Client/Server Architect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upports communication o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s RPC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mote Procedure Call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Interprocess Communication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Data Exchange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95280" y="2514600"/>
            <a:ext cx="6324480" cy="3505320"/>
            <a:chOff x="1295280" y="2514600"/>
            <a:chExt cx="6324480" cy="3505320"/>
          </a:xfrm>
        </p:grpSpPr>
        <p:sp>
          <p:nvSpPr>
            <p:cNvPr id="99" name=""/>
            <p:cNvSpPr/>
            <p:nvPr/>
          </p:nvSpPr>
          <p:spPr>
            <a:xfrm>
              <a:off x="1295280" y="2514600"/>
              <a:ext cx="2248560" cy="27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76080" y="2698920"/>
              <a:ext cx="168660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ient Appli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76080" y="380592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76080" y="435924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71200" y="2514600"/>
              <a:ext cx="2248560" cy="27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52360" y="2698920"/>
              <a:ext cx="168660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er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2360" y="380592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52360" y="435924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19560" y="34369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95840" y="34369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2680" y="4728600"/>
              <a:ext cx="23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25000" y="4912920"/>
              <a:ext cx="1265040" cy="11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COM Network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Broad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2438280"/>
            <a:ext cx="6857640" cy="3581280"/>
            <a:chOff x="1066680" y="2438280"/>
            <a:chExt cx="6857640" cy="3581280"/>
          </a:xfrm>
        </p:grpSpPr>
        <p:sp>
          <p:nvSpPr>
            <p:cNvPr id="114" name=""/>
            <p:cNvSpPr/>
            <p:nvPr/>
          </p:nvSpPr>
          <p:spPr>
            <a:xfrm>
              <a:off x="2495160" y="2438280"/>
              <a:ext cx="2143080" cy="27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1000" y="2925360"/>
              <a:ext cx="157140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ONDS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1000" y="4062240"/>
              <a:ext cx="157140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8160" y="35748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000" y="4549320"/>
              <a:ext cx="157140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81240" y="2438280"/>
              <a:ext cx="2143080" cy="27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10000" y="2925360"/>
              <a:ext cx="142848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ONDS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10000" y="4062240"/>
              <a:ext cx="1428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24240" y="35748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0000" y="4549320"/>
              <a:ext cx="1428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2760" y="487404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83760" y="4154040"/>
              <a:ext cx="71424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2920" y="5045400"/>
              <a:ext cx="1000080" cy="97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nection Oriented 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3335760"/>
              <a:ext cx="114300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er 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341244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066680" y="308772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2600640"/>
              <a:ext cx="1285560" cy="3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 Host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imitations of RPC on WA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s Dynamic Range of ports for communic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s vulnerable Port 135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Most Firewalls block these port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What is RPC over HTTP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llows client to communicate over Interne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rver uses RPC Proxy service provided by II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ent talks to RPC Proxy using HTTP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PC Proxy redirects the traffic to the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PC Proxy may or may not be the same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When applied to PDOND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2438280"/>
            <a:ext cx="7162560" cy="3581280"/>
            <a:chOff x="762120" y="2438280"/>
            <a:chExt cx="7162560" cy="3581280"/>
          </a:xfrm>
        </p:grpSpPr>
        <p:sp>
          <p:nvSpPr>
            <p:cNvPr id="138" name=""/>
            <p:cNvSpPr/>
            <p:nvPr/>
          </p:nvSpPr>
          <p:spPr>
            <a:xfrm>
              <a:off x="6730920" y="3632040"/>
              <a:ext cx="119376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3333600"/>
              <a:ext cx="358128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1160" y="3781440"/>
              <a:ext cx="149220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DONDS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7720" y="3333600"/>
              <a:ext cx="89532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C 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3400" y="3930480"/>
              <a:ext cx="23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06480" y="4228920"/>
              <a:ext cx="5670360" cy="1207800"/>
            </a:xfrm>
            <a:custGeom>
              <a:avLst/>
              <a:gdLst/>
              <a:ahLst/>
              <a:rect l="l" t="t" r="r" b="b"/>
              <a:pathLst>
                <a:path w="6840" h="1457">
                  <a:moveTo>
                    <a:pt x="0" y="180"/>
                  </a:moveTo>
                  <a:lnTo>
                    <a:pt x="9" y="1457"/>
                  </a:lnTo>
                  <a:lnTo>
                    <a:pt x="6831" y="1440"/>
                  </a:lnTo>
                  <a:lnTo>
                    <a:pt x="68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37160" y="3482640"/>
              <a:ext cx="7459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0880" y="2587320"/>
              <a:ext cx="0" cy="253692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0280" y="2438280"/>
              <a:ext cx="119376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rewal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89320" y="4001040"/>
              <a:ext cx="1193760" cy="74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Port 80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0" y="5572080"/>
              <a:ext cx="193968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al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3360" y="4079880"/>
              <a:ext cx="10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73920" y="3674520"/>
              <a:ext cx="894960" cy="29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3T07:42:23Z</dcterms:modified>
  <cp:revision>481</cp:revision>
  <dc:subject/>
  <dc:title>Software Project Management</dc:title>
</cp:coreProperties>
</file>